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Space Rac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500040" y="1793880"/>
            <a:ext cx="9245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1957: the Soviet Union launch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putni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into orbit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1961: Soviet astronaut Yury Gagarin orbits Earth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1962: U.S. astronaut John Glenn orbits Earth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1965: three U.S. astronauts go into orbit aboar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pollo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1969: Neil Armstrong walks on the moon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6-02-28T16:22:32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